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FF1-E69D-4040-86EC-4CC284C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CFD-E73A-42E7-AC0D-EF2FA69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D69-D080-4CBF-AA87-3DC0525D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4AB-4084-4F7C-8B02-E0285C9A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7FEF-5BC4-420B-8C4A-4E7BCD0D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F0C-23B7-45B1-B2CF-0894A93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000-6FBC-4A56-B35B-06A3FCED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913D-4114-425F-A1A9-551DEE9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277-E5F4-4D5D-864F-86764D8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C72F-03B8-4A42-B5CC-20FBFB1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7811-96D4-43B9-BF87-0EF6EA7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1BC-D1E6-4056-BB19-C43CB02A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0B9-7FEE-4BA2-AB64-D38C421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A05-3AAB-45A9-B576-236B94E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50C1-9076-4E06-9BD4-5FD59D98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4370-C3F4-4663-8786-D14CCB50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216-FCF8-4D91-84DC-B2596F03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E63-2DF3-4DEF-A879-2143ECD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BC5-D132-4D35-AFF8-A9FB6DE9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42F-BABF-47DD-952B-ECF552C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8E2-A1EC-415F-B254-72C3F80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9DB-E19D-4BC4-8349-F683526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601-8FDB-48D8-8816-10DBEA1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1F9-C233-4634-8F62-A9DEAF3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A2BC8-838D-499C-97BC-3063331D17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9A823B-D873-4E73-B14B-82A0F7AAB8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800" spc="-1" strike="noStrike">
                <a:solidFill>
                  <a:schemeClr val="accent3"/>
                </a:solidFill>
                <a:latin typeface="Calibri"/>
              </a:rPr>
              <a:t>ENERGY SYSTEMS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NAEROBIC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GLYCOLYSI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naerobic energy pathway, or glycolysi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reates ATP exclusively from carbohydr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tes this ATP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ithout the need of oxyg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Lactic ac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Hydrogen ion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are by-produc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 this syste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Anaerobic glycolysi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es energy for short, high- intensity bur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activity lasting no more than several minutes before the lactic acid build-up reaches a threshold known a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lactate threshold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muscle pain, burning and fatigue make it difficult to maintain such intens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NAEROBIC GLYCO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2" name="Content Placeholder 3"/>
          <p:cNvGraphicFramePr/>
          <p:nvPr/>
        </p:nvGraphicFramePr>
        <p:xfrm>
          <a:off x="457200" y="1693440"/>
          <a:ext cx="8229240" cy="429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ored glycogen, bloo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secs – 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m swim, 400 min sprint, Fast break in basketball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bility to produce energy under conditions of inadequate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ctic acid build up, H+ ions build up (decrease of 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31640" y="274680"/>
            <a:ext cx="6454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naerobic Chem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Content Placeholder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5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6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7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8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9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0" name="Down Arrow 9"/>
          <p:cNvSpPr/>
          <p:nvPr/>
        </p:nvSpPr>
        <p:spPr>
          <a:xfrm>
            <a:off x="943560" y="3519720"/>
            <a:ext cx="453240" cy="489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Right Arrow 10"/>
          <p:cNvSpPr/>
          <p:nvPr/>
        </p:nvSpPr>
        <p:spPr>
          <a:xfrm>
            <a:off x="3828240" y="3556080"/>
            <a:ext cx="525960" cy="435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Right Arrow 11"/>
          <p:cNvSpPr/>
          <p:nvPr/>
        </p:nvSpPr>
        <p:spPr>
          <a:xfrm>
            <a:off x="6629400" y="3472560"/>
            <a:ext cx="525960" cy="435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Bent Arrow 12"/>
          <p:cNvSpPr/>
          <p:nvPr/>
        </p:nvSpPr>
        <p:spPr>
          <a:xfrm flipV="1">
            <a:off x="1614600" y="3464640"/>
            <a:ext cx="616320" cy="52596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54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LACTATE THRESHO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 threshold is the common term used when the level of lactate acid nad H+ within the bloodstream and working muscles is above which an individual cannot continue to physically exersise at a desired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ined athletes can increase their tolerance to LA accumulation and are able to continue effective performance or training with much higher lactate and H+ levels in their working muscles and circulatory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is system in class we use muscle endurance exerci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shups, Situps, and Lunges for 2 minu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EROBIC SYSTEM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erobic system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uels most of the energy needed for long duration ac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ses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onvert nutrients to AT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ystem is a bi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lower than the anaerobi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lies on the circulatory system to transport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working muscles before it creates ATP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Endurance event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, less intense activities, that last long periods of ti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ystem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reates 38 molecules of ATP from 1 molecul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 glusco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EROBIC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457200" y="1417680"/>
          <a:ext cx="8229240" cy="470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ycogen, Carbohydrates, fats, 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&gt; 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alking, Marathons, triathlons, cross country skiing, AFL midfielder, Basketball game, rowing 20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rge output of energy over a long period of time, removal of lact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ctate and hydrogen ion accumulation, overheating, glucose and glycogen st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4080" y="274680"/>
            <a:ext cx="67395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erobic System Chem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3" name="Content Placeholder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4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5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6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7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8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9" name="Down Arrow 10"/>
          <p:cNvSpPr/>
          <p:nvPr/>
        </p:nvSpPr>
        <p:spPr>
          <a:xfrm>
            <a:off x="1705320" y="2375640"/>
            <a:ext cx="453240" cy="489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ight Arrow 11"/>
          <p:cNvSpPr/>
          <p:nvPr/>
        </p:nvSpPr>
        <p:spPr>
          <a:xfrm>
            <a:off x="4426920" y="2536200"/>
            <a:ext cx="525960" cy="3765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Right Arrow 12"/>
          <p:cNvSpPr/>
          <p:nvPr/>
        </p:nvSpPr>
        <p:spPr>
          <a:xfrm>
            <a:off x="6785280" y="2546640"/>
            <a:ext cx="525960" cy="3661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Bent Arrow 13"/>
          <p:cNvSpPr/>
          <p:nvPr/>
        </p:nvSpPr>
        <p:spPr>
          <a:xfrm flipV="1">
            <a:off x="2158920" y="2223720"/>
            <a:ext cx="616320" cy="52596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54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4"/>
          <p:cNvSpPr/>
          <p:nvPr/>
        </p:nvSpPr>
        <p:spPr>
          <a:xfrm>
            <a:off x="2939040" y="4535640"/>
            <a:ext cx="57924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518640" y="4179600"/>
            <a:ext cx="116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0" y="3701880"/>
            <a:ext cx="1088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a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( and O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te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emergency ATP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7"/>
          <p:cNvSpPr/>
          <p:nvPr/>
        </p:nvSpPr>
        <p:spPr>
          <a:xfrm>
            <a:off x="874800" y="4355280"/>
            <a:ext cx="42696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Right Arrow 18"/>
          <p:cNvSpPr/>
          <p:nvPr/>
        </p:nvSpPr>
        <p:spPr>
          <a:xfrm>
            <a:off x="3091680" y="6195960"/>
            <a:ext cx="57924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671280" y="5734440"/>
            <a:ext cx="1127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is system we use cardiovascular endu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 the 12 minute walk run and record the distance covered in 12 minut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ENERGY SYSTEM FOR SELECTED SPO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984240" y="1417680"/>
            <a:ext cx="7175160" cy="50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3"/>
                </a:solidFill>
                <a:latin typeface="Calibri"/>
              </a:rPr>
              <a:t>FOOD TO FUEL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in the human body come from the breakdown of nutrients lik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arbohydrates, protei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fats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od = Energy (AT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d result of this breakdown is the production energy in the form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denosine triphosphate (AT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 PATHWAY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provides energy necessary for body fun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ause the body can not easily store ATP it is necessary to continually create ATP during exerci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 PATHWAY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general, the two major ways the body converts nutrients to energy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erob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etabolism (with oxygen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aerob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etabolism (without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total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3 Energy system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t interplay to supply the fuel needed for exercise, with the intensity and duration of the exercise determining which method gets used wh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</a:t>
            </a: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SYSTEM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3 energy systems a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ATP-PC System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Anaerobic without oxygen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aerobic Glycolys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Anaerobic without oxygen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erob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erobic with oxyge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TP-CP SYSTEM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240" cy="47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TP-CP energy pathway (sometimes called the phosphate system)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ses ATP CP stores directl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athwa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esn't require any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reate AT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supplies abou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0 seconds worth of energy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is used for short bursts of exercise such as a 100 meter spr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first uses up any ATP stored in the muscle (about 2-3 seconds worth) and then it uses creatine phosphate (CP) to resynthesize ATP until the CP runs out (another 6-8 second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ter the ATP and CP are used the body will move on to either aerobic or anaerobic metabolism (glycolysis) to continue to create ATP to fuel exerci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chemeClr val="accent3"/>
                </a:solidFill>
                <a:latin typeface="Calibri"/>
              </a:rPr>
              <a:t>ATP-PC System Chemical 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50960" y="2050200"/>
            <a:ext cx="6255360" cy="40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 algn="ctr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en-AU" sz="4570" spc="-1" strike="noStrike">
                <a:solidFill>
                  <a:srgbClr val="ffffff"/>
                </a:solidFill>
                <a:latin typeface="Arial"/>
                <a:ea typeface="Arial"/>
              </a:rPr>
              <a:t>ATP↔ADP + P + energy</a:t>
            </a:r>
            <a:endParaRPr b="0" lang="en-US" sz="4570" spc="-1" strike="noStrike">
              <a:solidFill>
                <a:srgbClr val="ffffff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When ATP is broken down (i.e. loses one phosphate group) a new molecule is formed known as </a:t>
            </a:r>
            <a:r>
              <a:rPr b="1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Adenosine Diphosphate (ADP)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The energy produced activates specific sites along the muscle fibers causing them to shor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TP-CP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6" name="Content Placeholder 3"/>
          <p:cNvGraphicFramePr/>
          <p:nvPr/>
        </p:nvGraphicFramePr>
        <p:xfrm>
          <a:off x="457200" y="1562040"/>
          <a:ext cx="8229240" cy="448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ored ATP, 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p to 10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i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ight lifting, high jump, long jump, 100m run, 25m sw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oduce very large amount of energy in a short amount of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nitial concentration of high energy phosphates (ATP, P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e ATP-CP system we use muscular pow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cep Curl 1RM (repetition maximu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  <Words>976</Words>
  <Paragraphs>13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17:33Z</dcterms:created>
  <dc:creator>Amy Ryan</dc:creator>
  <dc:description/>
  <dc:language>en-US</dc:language>
  <cp:lastModifiedBy>Amy Ryan</cp:lastModifiedBy>
  <dcterms:modified xsi:type="dcterms:W3CDTF">2010-10-14T09:32:18Z</dcterms:modified>
  <cp:revision>35</cp:revision>
  <dc:subject/>
  <dc:title>ENERGY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9</vt:r8>
  </property>
</Properties>
</file>